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EA8F-475C-49B5-8CF6-6E627E83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F4F4-135B-4B2E-A51A-A6DD7724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45E-2791-49F6-A02D-4B8AF5B7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7C7-69E0-46AA-BD33-7C1DE291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FF63-BE12-43D5-A817-B7717BCB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A7E-DB82-4067-8C5F-2B283E4E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9EF1-14D8-439B-9989-06AD61C4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19F-4DFC-4E84-B36A-CA5506BF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E375-0F5E-4D1E-8365-8E445DED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533-3B63-46EA-8E6A-5166B62E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8FB-B097-4E43-B173-F41C677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39AB-E569-4A6D-A24D-FD36C87C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2DF7-FD22-42C4-8A56-12BEA74934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skype:angela.merkel?call&amp;video=true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kype Anrufmanag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nhaltsplatzhalter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43080" y="293832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43" name="Inhaltsplatzhalter 7" descr=""/>
          <p:cNvPicPr/>
          <p:nvPr/>
        </p:nvPicPr>
        <p:blipFill>
          <a:blip r:embed="rId3"/>
          <a:stretch/>
        </p:blipFill>
        <p:spPr>
          <a:xfrm>
            <a:off x="5743440" y="2624040"/>
            <a:ext cx="1847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16:32:36Z</dcterms:created>
  <dc:creator>Dr. J. Deutsch</dc:creator>
  <dc:description/>
  <dc:language>en-US</dc:language>
  <cp:lastModifiedBy>Dr. J. Deutsch</cp:lastModifiedBy>
  <dcterms:modified xsi:type="dcterms:W3CDTF">2013-12-03T17:07:10Z</dcterms:modified>
  <cp:revision>3</cp:revision>
  <dc:subject/>
  <dc:title>PowerPoint-Präsentation</dc:title>
</cp:coreProperties>
</file>